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1DE-6334-4683-8C21-9923EE5D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1D5-AEC5-4830-9385-D9C48BD2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7B3-2BDE-4A5B-A89C-295326EE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F04-077B-405E-B1C3-B5887BCA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C31-391B-43F5-9D43-0CCAF32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048-C89F-45AF-AC73-447707A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665-130B-49B1-AC7D-58A2357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511-86CC-4138-8E5D-EBF7952B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F1B-4FF7-4698-AB50-E501A99C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A5E-CC09-4D60-8649-7A93F5C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526-B1BC-4C15-907C-F09A270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3D6-0509-40B9-A922-DFACF02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51A8-1DD2-4808-9A14-1589D57C8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BB2-4904-43DE-A301-F9E61D15B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м элементом этого механизма является рабочее колесо, помещенное в металлический корпу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ее колесо состоит из литой ступицы, в которой закреплены одним концом лопасти. Лопасти колеса, или лопатки, установлены под некоторым углом и являются отдельными частями винтовых поверхностей постоянного или радиально-переменного шага. При вращении рабочего колеса па передних и задних винтовых поверхностях лопаток создается разность давлений (по законам вихревой теории Н. Е. Жуковского), в результате чего воздух засасывается во входное, расширяющееся отверстие корпуса и нагнетается в противоположное выходное отверс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BFD8-FC6D-4173-8A2E-BF08FB470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4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2CA7-3856-4423-86DD-059FAC795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вия подобия вентиля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рциональное изменение основных геометрических размеров вентилятора позволяет осуществлять расчетным путем переход от характеристик одного исходного вентилятора к характеристикам других номеров вентиляторов той же серии. Это обстоятельство может исключить необходимость пользоваться многочисленными диаграммами, построенными для каждого вентилятора одной и той же с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1B5F-22C8-4ADA-9316-DDD932A89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и пропорциональном изменении геометрических размеров с сохранением режима, т. е. пр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n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nst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nst,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7F9-5FC4-47A5-8A1F-7E104589A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3968640" y="2031840"/>
            <a:ext cx="3686400" cy="1260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2"/>
          <a:stretch/>
        </p:blipFill>
        <p:spPr>
          <a:xfrm>
            <a:off x="1547640" y="2155680"/>
            <a:ext cx="184500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3"/>
          <a:stretch/>
        </p:blipFill>
        <p:spPr>
          <a:xfrm>
            <a:off x="1692360" y="1049400"/>
            <a:ext cx="1436760" cy="1106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"/>
          <p:cNvPicPr/>
          <p:nvPr/>
        </p:nvPicPr>
        <p:blipFill>
          <a:blip r:embed="rId4"/>
          <a:stretch/>
        </p:blipFill>
        <p:spPr>
          <a:xfrm>
            <a:off x="4097160" y="1062000"/>
            <a:ext cx="3499200" cy="969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108000" y="371628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их формулах индексами «0» обозначаем исходные характеристики, а индексами «1» — вновь определя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едполагается, что выполняются также условия кинематического и динамического подобия, т. е. сохраняются условия обтекания лопастей потоком воздуха (с учетом их формы), И коэффициенты полезного действия остаются постоя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вентилятора одного и того же номера, т.е. при сохранении геометрических размеров и плотности потока воздуха, с изменением режима его работы только за счет угловой скорости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C5F5-DEF2-498D-8B03-A6E9C9578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3059280" y="1454040"/>
            <a:ext cx="3025440" cy="1614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2"/>
          <a:stretch/>
        </p:blipFill>
        <p:spPr>
          <a:xfrm>
            <a:off x="3276720" y="3257640"/>
            <a:ext cx="2566800" cy="1620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>
            <a:off x="3419640" y="5084640"/>
            <a:ext cx="197460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 При одновременном изменении геометрических размеров вентилятора, угловой скорости и плотности воздух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8DE1-2F75-4218-B53F-91EB6405E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3059280" y="2754360"/>
            <a:ext cx="2701800" cy="90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2"/>
          <a:stretch/>
        </p:blipFill>
        <p:spPr>
          <a:xfrm>
            <a:off x="3075120" y="3860640"/>
            <a:ext cx="275112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3"/>
          <a:stretch/>
        </p:blipFill>
        <p:spPr>
          <a:xfrm>
            <a:off x="3220920" y="4941720"/>
            <a:ext cx="24591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386-B1DF-4587-80F8-98995CBB7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еподаватель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венков Дмитри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елов С.А., Веденьев В.Ф. Вентиляционные и аспирационные установки предприятий хлебопродук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, Кол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А.Анфалов, Г.И.Проценко, И.А.Хозяев, Е.В.Ревя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тиляционное и пневмо-транспортное оборудование хлебоперерабатывающих предприятий ДГТУ.- Ростов-на До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20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20B-E6A6-4923-B708-D61F61D18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05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тиляторы аспирационных с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аэродинамическими характеристиками вентиляторов явля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изводите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ор воздух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определяет количество проходящего агента и зависит от геометрических размеров вентилятора, а вторая — давление, создаваемое аппаратом путем закручивания и сжатия потока воздуха, что зависит от конструкции вентиля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CA46-44C9-47D5-8567-DDCA9CFA4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20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бежный вентиля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65C-25EA-4E65-BBB1-7EC257072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520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бежный вентиля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1016-64C8-4EE5-8089-AEC44A4C7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798480" y="1149480"/>
            <a:ext cx="73994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-316080"/>
            <a:ext cx="8205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обежный вентиля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C4CD-E7D3-4E78-A1EB-F3AABFA6C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2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5280" y="1159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м рабочим органом является рабочее колесо, состоящее из отдельных лопастей, установленных между двумя стальными диск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есо закреплено на валу и помещено в металлический спиральный корпус, изготовленный из листовой стали или отлитый из чугуна. При вращении рабочего колеса воздух засасывается через осевое отверстие, увлекается лопастями, создающими разрежение и закручивание потока, и вытесняется через выходное отверс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ее колесо вентилятора соединяется с валом при помощи литой или кованой ступицы и закрепляется консольно, т. е. имеет одну опору (при небольших размерах вентилятора предпочтительнее размещать его непосредственно на валу электродвигателя). Большие вентиляторы имеют между электродвигателем и рабочим колесом промежуточный вал, опирающийся на два подшипника. На этом валу может располагаться шкив для привода от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74A-2D1D-4981-9E1A-FF9F31C06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вой вентиля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73B-7C31-42AE-911B-CFC14ABFE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00880" y="6227640"/>
            <a:ext cx="84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лопасть рабочего колеса; 2 – корпус; 3 – электродвигатель; 4 -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D0A-B17E-4011-925B-A9CF4268E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2" descr=""/>
          <p:cNvPicPr/>
          <p:nvPr/>
        </p:nvPicPr>
        <p:blipFill>
          <a:blip r:embed="rId1"/>
          <a:stretch/>
        </p:blipFill>
        <p:spPr>
          <a:xfrm>
            <a:off x="0" y="30240"/>
            <a:ext cx="956484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Пользователь</cp:lastModifiedBy>
  <dcterms:modified xsi:type="dcterms:W3CDTF">2018-12-07T06:12:58Z</dcterms:modified>
  <cp:revision>95</cp:revision>
  <dc:subject/>
  <dc:title>АВТОМАТИЗАЦИЯ ПРОИЗВОДСТВ В ПИЩЕВОЙ ПРОМЫШЛЕННОСТИ</dc:title>
</cp:coreProperties>
</file>